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551-EFF8-4BBB-B5E6-F263B584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FD1-48E3-4A95-AC22-DA8B684D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99C-A916-4DA0-9201-85B54FC3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465-5DFE-41CD-AA9A-84D678A5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F171-F251-4BC3-B2EA-1F481C23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72E5-4138-4455-BB24-E69022F6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E9C9-5DDA-408B-A83B-B02520BE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3166-91E5-45E0-A924-F80B33A5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8703-0BD3-47B2-8973-31D0F925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67A-8932-4CAF-AE4B-BD5529B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F47-FB3C-4997-AD0A-78EE84B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D18-1EA7-4004-ABC9-45903054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70BC-C136-44F7-971C-C4FD53F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EEC9-A8DD-4632-8F8C-9262941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DAA-DF33-4DE3-9A9C-E9A4901F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D9F3-C130-47EE-B9A9-340352CC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73A-0A46-4747-8A33-EC02462D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4577-30DF-45D0-8DE9-5A6164B4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08CF-A106-4290-98C1-CB9865B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A9E5-349A-4A0F-89EF-402D829D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1B96-A07F-4CC8-87FB-80D9F26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1EB3-DF04-4064-BC04-3E5822E8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F7B-D1FB-47F7-B7FF-A40758B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8270-3244-4AED-B50C-ACCF1798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6572-3323-4DCF-80C8-9D80186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2F8D-D5E4-413C-9280-34D341F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0CD6-1CA8-4BBB-91B3-1EE50F61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EA9A-244A-4A14-8141-84988316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0963-DF83-4B24-9F1D-DD94FDAD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F441-911D-4EBD-9065-FC436389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4D1A-A61F-4413-949C-7FF1DA9D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A5A7-4BE3-4AE3-B315-21C8990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8AD0-3F89-40F5-AF8D-3AF95825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E1F-1E88-43C0-9713-4291068D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0D9C-D267-45EE-8052-0237DAE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7EB7-011B-4F05-9176-2C9807C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9C03-BB9E-4CF8-95FB-D3C89D5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DAFF-A890-4CE3-9EF7-EE9E6F6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FB64-2440-423C-B2D6-AAF8725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8880-9771-4F41-96A9-2C8BFACF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F674C-09F9-44E5-B59B-20FD240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3CE1-8687-4A9E-935F-8BE29B2E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43C8-9139-4E2D-B9D1-87EC5BBD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3A1C-2C88-494F-A7BE-6C2CB8B3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6D9-1EEE-41C6-BE9A-5C0AB034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249F1-6C19-4944-9EC2-FBF30B7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5148-19E4-47A4-9F2A-7934750D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6B56-5C23-4B2F-9EF8-FE868905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98893-DBDF-4A19-8F67-DEDC344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DF852-A949-4692-B170-CF7BA236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3E398-0FCE-4C9D-B6B6-1EF5A59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B83A-853D-4DAF-B5BC-718A4EA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C912B-48E0-4B35-91AF-9AFB2E3F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052F-6775-4680-B473-1FAE3A1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7C9D-2B8B-4F36-BF55-94B6D090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EEC-1E24-4B15-967A-BEFCC845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1F0DB-C8D2-4EBD-B48C-A8223275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9DB-1A7B-4A50-949E-549E1F45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89B-EBB9-4F32-B5C4-1C4684F3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365-A64A-4A40-9184-363C71D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Aft>
                <a:spcPts val="113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CA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CA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D499E7-1EC6-48CC-A665-0E4B610F4D4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000" y="540000"/>
            <a:ext cx="8640000" cy="102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CA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C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000" y="1980000"/>
            <a:ext cx="84600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CA" sz="3200" spc="-1" strike="noStrike">
              <a:solidFill>
                <a:srgbClr val="006b6b"/>
              </a:solidFill>
              <a:latin typeface="Arial"/>
            </a:endParaRPr>
          </a:p>
          <a:p>
            <a:pPr lvl="1" marL="864000" indent="-288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8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CA" sz="2800" spc="-1" strike="noStrike">
              <a:solidFill>
                <a:srgbClr val="006b6b"/>
              </a:solidFill>
              <a:latin typeface="Arial"/>
            </a:endParaRPr>
          </a:p>
          <a:p>
            <a:pPr lvl="2" marL="1296000" indent="-216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4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CA" sz="2400" spc="-1" strike="noStrike">
              <a:solidFill>
                <a:srgbClr val="006b6b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5720" y="630000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0000" y="6318720"/>
            <a:ext cx="322236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72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F4EED0-730A-499C-9B0A-87386D77B5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373320"/>
            <a:ext cx="936000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40000" y="2520000"/>
            <a:ext cx="903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288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16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000" y="7031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360" y="7031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7031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A230AE-3D63-4CF6-96C1-51F4D1821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8360" y="717840"/>
            <a:ext cx="835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0000" y="2160000"/>
            <a:ext cx="82800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288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16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DA2EDE-0E49-43ED-A025-20DD47DE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288000">
              <a:spcAft>
                <a:spcPts val="1134"/>
              </a:spcAft>
              <a:buClr>
                <a:srgbClr val="333333"/>
              </a:buClr>
              <a:buSzPct val="75000"/>
              <a:buFont typeface="Symbol" charset="2"/>
              <a:buChar char=""/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CA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16000">
              <a:spcAft>
                <a:spcPts val="850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CA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Aft>
                <a:spcPts val="567"/>
              </a:spcAft>
              <a:buClr>
                <a:srgbClr val="333333"/>
              </a:buClr>
              <a:buSzPct val="75000"/>
              <a:buFont typeface="Symbol" charset="2"/>
              <a:buChar char="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Aft>
                <a:spcPts val="283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Aft>
                <a:spcPts val="283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Aft>
                <a:spcPts val="283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76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C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C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93175E-D7D1-490E-BC9C-CDF523AEACA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CA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ARENTING STYLE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CP30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Ms. Dra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Permissive Parenting Style</a:t>
            </a:r>
            <a:br>
              <a:rPr sz="4400"/>
            </a:b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(Jellyfish)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51960" y="1769040"/>
            <a:ext cx="442656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ew limits/rules impose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arents view themselves as their child's frien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may control the famil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learn wrongdoing from the results of their action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04000" y="2050200"/>
            <a:ext cx="4426560" cy="442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Potential Impact on Child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Impacts on Child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mpulsive behaviour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rresponsible behaviour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ess likely to consider the effect of their actions on other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ess oriented towards achievemen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702400" y="1768680"/>
            <a:ext cx="332532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4000" y="313560"/>
            <a:ext cx="90716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Authoritative Parenting Style</a:t>
            </a:r>
            <a:br>
              <a:rPr sz="4400"/>
            </a:b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(Backbone)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52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Warmth, support and unconditional lov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Guidelines are flexible and adaptable to different situation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make decisions within the limits set by parent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Rules are explaine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0">
              <a:spcAft>
                <a:spcPts val="1417"/>
              </a:spcAft>
              <a:buNone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51960" y="1860120"/>
            <a:ext cx="4426560" cy="48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otential Impacts on Child?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Impacts on Child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4000" y="2795040"/>
            <a:ext cx="4426560" cy="29368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51960" y="1769040"/>
            <a:ext cx="44265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Better adjusted socially and emotionall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tronger self-concep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igher self-control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chievement oriente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ble to make better decisions during the teen year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is a Parenting Style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Parenting Styles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Involves to the expectations of child (e.g. behaviour when visiting Grandma)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Parent – child interactions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Rules and how they are enforced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How parent responds to child (e.g. the affection shown between parent and child)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60000" y="4098240"/>
            <a:ext cx="5220000" cy="1661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645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parenting style do you think you will have? Take the quiz!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factors might influence parenting styles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What Influences Parenting Styles?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way parents were raised 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family structure (single-parent, dual-income, etc)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nic backgroun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ndividual parenting skills and knowledg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151960" y="2761200"/>
            <a:ext cx="4426560" cy="30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000" y="313560"/>
            <a:ext cx="90716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Authoritarian Parenting Style</a:t>
            </a:r>
            <a:br>
              <a:rPr sz="4400"/>
            </a:b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(Brick Wall)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0000" y="1693800"/>
            <a:ext cx="4426560" cy="56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trict disciplin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0">
              <a:spcAft>
                <a:spcPts val="1417"/>
              </a:spcAft>
              <a:buNone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arents value obedience, structure and respec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listen without understanding reasons for rul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Behaviour managed through reward and punishment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51960" y="2062440"/>
            <a:ext cx="4426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might the impacts be on the child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Potential Impact on Child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ower self-esteem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igher levels of aggression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 love you when you are good” messag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More susceptible to physical punishmen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51960" y="1917360"/>
            <a:ext cx="4426560" cy="46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6:01:53Z</dcterms:created>
  <dc:creator>dana dray</dc:creator>
  <dc:description/>
  <dc:language>en-US</dc:language>
  <cp:lastModifiedBy/>
  <dcterms:modified xsi:type="dcterms:W3CDTF">2010-11-23T13:10:39Z</dcterms:modified>
  <cp:revision>16</cp:revision>
  <dc:subject/>
  <dc:title/>
</cp:coreProperties>
</file>